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8712ED-8B72-451A-AC1D-14B41C0C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602-7138-4B64-9E2F-91679FE3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2C5-90A1-4892-807F-9D9DFF2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F6D-0080-4CC1-997C-98DD941D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70C-306B-4C9E-BDF5-4AF0024C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937E-00CC-4A7A-B7DF-0DB99DBD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C3A-4B0C-4762-9FAD-B07332A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20F-3A2E-4C24-900E-2C0D5C3F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C62-0EE4-40CB-A823-BCF267E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7E0-BBB8-4B97-A080-0E91AA40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A05-FB4D-4D2E-8BC1-EB64FC8A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4F7C-D922-45A4-B465-CAF39C6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495-A926-4D3C-9126-3895CC4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7A2C-FB1D-44E7-8D5A-37F42EC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9578-6CC5-4A75-ADA7-D66EFB5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3811-9FC0-4320-B057-B9AE9DA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EF04-0248-4067-9564-468F956C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947C-E271-4EA6-8E41-07ED108D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8F0C-9707-4819-9C70-3F00E682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E710-CA9E-4E5C-A830-DD91E76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FDEA-C340-43C9-956C-7C54AA21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0BA9-77F1-44B0-81F4-132595E5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F028-8F65-4A62-A863-A609FC7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375-59B1-47D2-821A-DF3EB637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8349-22E5-4C6F-A035-FD4A7B94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B5E1-4569-42A7-A067-2CF3C52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1BA9-4441-4986-ACBF-BCBE270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AA10-9F8A-4A92-83B6-E544A0B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95F3-95F9-4DAF-B6E6-F3D46460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28B8-A5DE-4F43-8018-8CB75A3D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FB15-BD8C-492E-9832-D7F9EF10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85FF-9A0F-4BAD-B60D-EECB42FB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25C7-C115-4A65-A8F2-6DB58A83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357C-7A84-4D38-AAE0-EB41A34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B4C-4EF5-4F3B-96FC-7EF445FA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D8C4-CD99-46FE-8E85-1F653D9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04F7-0543-40FF-A8DE-9754EC5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7306-1B54-447C-815C-26A162D3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3F7B-4082-4D01-82F0-7BB9A89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271F-E9EB-487F-8F69-FD705B8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29F3-4885-45AA-AB7F-6CA0E1A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9F39-B2E4-4EE2-9BF9-E9DA30C9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1671-5158-483C-9FC4-E534AD2C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D381-CC7E-4272-BD0C-6B3E41CF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893-7C5F-4704-9334-EA1AF03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1C2-5C7F-4080-90C3-416BB60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E36-4642-4CDA-B3D0-10EDE8C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4D7-9420-45D6-A8BA-BB495858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CE1-6A4D-4AE4-B40B-EFC5E78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54156B-25C0-4ACE-92FD-2019EB6E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3A966-8783-4E97-A533-6E5B0895E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5DCDD-E075-41CA-AF86-6C7D62AEF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DAB82-417D-453E-A218-038DCFE6F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2908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6769080" y="2125800"/>
            <a:ext cx="3311640" cy="2590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3529080" y="2125800"/>
            <a:ext cx="3311280" cy="25905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5800"/>
            <a:ext cx="3311280" cy="2590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m atmospheric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A40 T2M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17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68680" y="4572000"/>
            <a:ext cx="327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2000"/>
            <a:ext cx="3309840" cy="2592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3562200" y="2104920"/>
            <a:ext cx="3275280" cy="2633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6769080" y="2124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4000"/>
            <a:ext cx="3311280" cy="25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SST SST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39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68360" y="16225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6000" y="179532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between multi-model ensemble-mean and ERSST S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64000" y="3203640"/>
            <a:ext cx="16556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rcRect l="1685" t="0" r="0" b="2382"/>
          <a:stretch/>
        </p:blipFill>
        <p:spPr>
          <a:xfrm>
            <a:off x="6707160" y="5151600"/>
            <a:ext cx="3373560" cy="2403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rcRect l="1685" t="0" r="0" b="2382"/>
          <a:stretch/>
        </p:blipFill>
        <p:spPr>
          <a:xfrm>
            <a:off x="3395520" y="5149800"/>
            <a:ext cx="3373560" cy="24051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rcRect l="0" t="0" r="0" b="2382"/>
          <a:stretch/>
        </p:blipFill>
        <p:spPr>
          <a:xfrm>
            <a:off x="69840" y="5148360"/>
            <a:ext cx="3456000" cy="235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rcRect l="0" t="0" r="1685" b="2382"/>
          <a:stretch/>
        </p:blipFill>
        <p:spPr>
          <a:xfrm>
            <a:off x="6624720" y="2484360"/>
            <a:ext cx="3397320" cy="23860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rcRect l="0" t="0" r="1685" b="2382"/>
          <a:stretch/>
        </p:blipFill>
        <p:spPr>
          <a:xfrm>
            <a:off x="3378240" y="2484360"/>
            <a:ext cx="3390840" cy="2379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rcRect l="0" t="0" r="1685" b="0"/>
          <a:stretch/>
        </p:blipFill>
        <p:spPr>
          <a:xfrm>
            <a:off x="0" y="2484360"/>
            <a:ext cx="3462480" cy="2492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928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3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928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6072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4544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Which major events are misse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 Surface Temperature anomalies (155°E-235°E, 10°N-45°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7280" y="3132000"/>
            <a:ext cx="7345440" cy="3672000"/>
            <a:chOff x="287280" y="3132000"/>
            <a:chExt cx="7345440" cy="3672000"/>
          </a:xfrm>
        </p:grpSpPr>
        <p:sp>
          <p:nvSpPr>
            <p:cNvPr id="564" name=""/>
            <p:cNvSpPr/>
            <p:nvPr/>
          </p:nvSpPr>
          <p:spPr>
            <a:xfrm>
              <a:off x="28728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7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1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892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036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200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4520" y="3692520"/>
            <a:ext cx="5110200" cy="3616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rcRect l="0" t="0" r="0" b="1429"/>
          <a:stretch/>
        </p:blipFill>
        <p:spPr>
          <a:xfrm>
            <a:off x="5041800" y="3692520"/>
            <a:ext cx="5038920" cy="3616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796080" y="950760"/>
            <a:ext cx="3284640" cy="2324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87280" y="1047600"/>
            <a:ext cx="6192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wo major warmings in the North Pacific Ocean in 1963 and 1968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6720" y="5940360"/>
            <a:ext cx="194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01080" y="6156360"/>
            <a:ext cx="57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80000" y="3997440"/>
            <a:ext cx="172908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16720" y="464508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96360" y="5925960"/>
            <a:ext cx="1368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Fluxes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9072720" y="5437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84720" y="6013440"/>
            <a:ext cx="143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7280" y="3132000"/>
            <a:ext cx="496908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a Surface Temperature 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84720" y="3132000"/>
            <a:ext cx="4896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ward surface heat fluxes anomalies        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1835280"/>
            <a:ext cx="1439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55-235°E   10-45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71640"/>
            <a:ext cx="986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o links with the main modes of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82520" y="1619280"/>
            <a:ext cx="4498920" cy="318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5148360" y="1619280"/>
            <a:ext cx="4500360" cy="318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2882880" y="4532400"/>
            <a:ext cx="4102200" cy="28479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201080" y="5580000"/>
            <a:ext cx="25207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rl.noaa.gov/psd/data/climateindi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9280" y="4932360"/>
            <a:ext cx="1512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655640" y="3492360"/>
            <a:ext cx="360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3280" y="6516720"/>
            <a:ext cx="2087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-month running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32000" y="6011640"/>
            <a:ext cx="1295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688000" y="2700360"/>
            <a:ext cx="3673440" cy="4859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3080" y="2532240"/>
            <a:ext cx="5327640" cy="37684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80-205°E – 35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35640" y="3419640"/>
            <a:ext cx="2174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35640" y="3564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275520" y="3635280"/>
            <a:ext cx="144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27280" y="2987640"/>
            <a:ext cx="129708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4720" y="1657440"/>
            <a:ext cx="6264360" cy="59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rancisco J Doblas-Rey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ui Du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 perturbations, sea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avier G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-Serrano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O, African mon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rginie Guema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ea ice, North Pacific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bian Lienert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regionalisation, PDO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lanie Davi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anila Volpi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uis Ricardo Rodrigue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NSO, statis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da P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uhammad Asif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iol Mula-Vall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ystem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mingo Manuben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utosubmit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360" y="4538520"/>
            <a:ext cx="36036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360" y="3144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4360" y="2214720"/>
            <a:ext cx="360360" cy="23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44360" y="364968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4360" y="4078440"/>
            <a:ext cx="360360" cy="22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44360" y="50166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44360" y="177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44360" y="2712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44360" y="54738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44360" y="645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144360" y="688968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44360" y="5978520"/>
            <a:ext cx="360360" cy="239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6000" y="971640"/>
            <a:ext cx="9720000" cy="537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ur focus : Seasonal to decadal prediction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1979640"/>
            <a:ext cx="3311280" cy="209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share, on reque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decadal hin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sea ic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 diagnostic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2000" y="4572000"/>
            <a:ext cx="3024000" cy="25192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run 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enostrum ( Spa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ECTOR ( Scotla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ndgren ( Swede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92000" y="104292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advection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rcRect l="0" t="0" r="2696" b="0"/>
          <a:stretch/>
        </p:blipFill>
        <p:spPr>
          <a:xfrm>
            <a:off x="5184720" y="2916360"/>
            <a:ext cx="4824360" cy="3528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45080" y="2548080"/>
            <a:ext cx="41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backward trajectories computed with AR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84720" y="6156360"/>
            <a:ext cx="4751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IANE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http://stockage.univ-brest.fr/~grima/Ariane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848720" y="5148360"/>
            <a:ext cx="1726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ril 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8353440" y="4787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04000" y="5364000"/>
            <a:ext cx="223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vember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976720" y="5148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modulation of the amplitude by mix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rcRect l="0" t="0" r="5393" b="0"/>
          <a:stretch/>
        </p:blipFill>
        <p:spPr>
          <a:xfrm>
            <a:off x="4968720" y="2843280"/>
            <a:ext cx="5112000" cy="3744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327640" y="2484360"/>
            <a:ext cx="468000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 climatological mixed layer depth ( 35°N-45°N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33080" y="2843280"/>
            <a:ext cx="647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686560" y="2701800"/>
            <a:ext cx="3674880" cy="48578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1280" y="2532240"/>
            <a:ext cx="5326200" cy="37670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68360" y="3706920"/>
            <a:ext cx="3024360" cy="19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47640" y="1042920"/>
            <a:ext cx="8785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upward transfer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982960" y="2627280"/>
            <a:ext cx="3674880" cy="4857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808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amplification by the atmosphere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504720" y="2987640"/>
            <a:ext cx="4248360" cy="3006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008000" y="2411280"/>
            <a:ext cx="338472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nd speed anomalies (170-235°E,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09800" y="5075280"/>
            <a:ext cx="100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FS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52360" y="442728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73440" y="4932360"/>
            <a:ext cx="93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05440" y="4642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27640" y="2703600"/>
            <a:ext cx="3675240" cy="48578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256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008000" y="97164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tratification in the Pacific Oce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0" r="0" b="7146"/>
          <a:stretch/>
        </p:blipFill>
        <p:spPr>
          <a:xfrm>
            <a:off x="1062000" y="451152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rcRect l="0" t="0" r="0" b="7146"/>
          <a:stretch/>
        </p:blipFill>
        <p:spPr>
          <a:xfrm>
            <a:off x="5167440" y="4427640"/>
            <a:ext cx="4076640" cy="31068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rcRect l="0" t="0" r="0" b="7146"/>
          <a:stretch/>
        </p:blipFill>
        <p:spPr>
          <a:xfrm>
            <a:off x="1063800" y="1798560"/>
            <a:ext cx="4319280" cy="30574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rcRect l="0" t="0" r="0" b="7146"/>
          <a:stretch/>
        </p:blipFill>
        <p:spPr>
          <a:xfrm>
            <a:off x="5167440" y="1763640"/>
            <a:ext cx="4103640" cy="3059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rot="16200000">
            <a:off x="-69228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-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-69228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787572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787572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57280" y="1692360"/>
            <a:ext cx="7039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MA mixed layer depth (density criteria)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1640" y="2266920"/>
            <a:ext cx="9433080" cy="46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rth Pacific region = region of lowest skill in near-term climate predictions ( 2- 5 yea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jor warm events around 1963 and 1968 missed by every forecasting systems = main cause for the low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3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heat anomaly advected along the Kuroshio-Oyashio and confined to an increasingly thinnner mix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8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ep heat anomaly transferred toward the surface and then amplified by the atmospheric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ases in the Pacific ocean stratification could be responsible for the failure of the forecas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3280" y="248436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84360" y="4572000"/>
            <a:ext cx="6769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guemas@ic3.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10080720" cy="330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16000" y="6281640"/>
            <a:ext cx="705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g. 2 of Meehl et al. (2009, B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195560" y="5195880"/>
            <a:ext cx="3420360" cy="344160"/>
            <a:chOff x="1195560" y="5195880"/>
            <a:chExt cx="3420360" cy="344160"/>
          </a:xfrm>
        </p:grpSpPr>
        <p:sp>
          <p:nvSpPr>
            <p:cNvPr id="208" name=""/>
            <p:cNvSpPr/>
            <p:nvPr/>
          </p:nvSpPr>
          <p:spPr>
            <a:xfrm>
              <a:off x="1200240" y="5538600"/>
              <a:ext cx="3410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97000" y="545004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5560" y="51958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4920" y="540144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3120" y="53568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1680" y="53110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98440" y="527796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7000" y="52434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5560" y="54892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17520" y="5635800"/>
            <a:ext cx="3420720" cy="343800"/>
            <a:chOff x="1217520" y="5635800"/>
            <a:chExt cx="3420720" cy="343800"/>
          </a:xfrm>
        </p:grpSpPr>
        <p:sp>
          <p:nvSpPr>
            <p:cNvPr id="218" name=""/>
            <p:cNvSpPr/>
            <p:nvPr/>
          </p:nvSpPr>
          <p:spPr>
            <a:xfrm>
              <a:off x="1221840" y="5978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600" y="5889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7520" y="56358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6880" y="584100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5080" y="57967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3640" y="57510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0400" y="5717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600" y="5682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7520" y="59292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93760" y="4730760"/>
            <a:ext cx="3420720" cy="344160"/>
            <a:chOff x="1193760" y="4730760"/>
            <a:chExt cx="3420720" cy="344160"/>
          </a:xfrm>
        </p:grpSpPr>
        <p:sp>
          <p:nvSpPr>
            <p:cNvPr id="228" name=""/>
            <p:cNvSpPr/>
            <p:nvPr/>
          </p:nvSpPr>
          <p:spPr>
            <a:xfrm>
              <a:off x="1198080" y="5073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840" y="4984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760" y="47307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2760" y="49359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1320" y="4891680"/>
              <a:ext cx="3411720" cy="10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9880" y="4845960"/>
              <a:ext cx="341136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6640" y="4812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4840" y="4777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3760" y="50241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92320" y="4290840"/>
            <a:ext cx="3420720" cy="344160"/>
            <a:chOff x="1192320" y="4290840"/>
            <a:chExt cx="3420720" cy="344160"/>
          </a:xfrm>
        </p:grpSpPr>
        <p:sp>
          <p:nvSpPr>
            <p:cNvPr id="238" name=""/>
            <p:cNvSpPr/>
            <p:nvPr/>
          </p:nvSpPr>
          <p:spPr>
            <a:xfrm>
              <a:off x="1197000" y="4633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93760" y="454536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2320" y="42908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1680" y="449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51760"/>
              <a:ext cx="3411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8440" y="440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5200" y="4372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760" y="43380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2320" y="45846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82600" y="3849840"/>
            <a:ext cx="3420720" cy="343800"/>
            <a:chOff x="1182600" y="3849840"/>
            <a:chExt cx="3420720" cy="343800"/>
          </a:xfrm>
        </p:grpSpPr>
        <p:sp>
          <p:nvSpPr>
            <p:cNvPr id="248" name=""/>
            <p:cNvSpPr/>
            <p:nvPr/>
          </p:nvSpPr>
          <p:spPr>
            <a:xfrm>
              <a:off x="1186920" y="41925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3680" y="4104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8498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1600" y="405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90160" y="40107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720" y="396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5480" y="3931560"/>
              <a:ext cx="3411720" cy="144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83680" y="3897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41432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170000" y="3421080"/>
            <a:ext cx="3420720" cy="344160"/>
            <a:chOff x="1170000" y="3421080"/>
            <a:chExt cx="3420720" cy="344160"/>
          </a:xfrm>
        </p:grpSpPr>
        <p:sp>
          <p:nvSpPr>
            <p:cNvPr id="258" name=""/>
            <p:cNvSpPr/>
            <p:nvPr/>
          </p:nvSpPr>
          <p:spPr>
            <a:xfrm>
              <a:off x="1174320" y="37641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1080" y="367560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0000" y="34210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9000" y="36262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77560" y="35823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75760" y="353628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2880" y="3503160"/>
              <a:ext cx="341136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71080" y="34682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70000" y="37148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360600"/>
            <a:ext cx="214560" cy="268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291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01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12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342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527280" y="615636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368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78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99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409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419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27280" y="3132000"/>
            <a:ext cx="1152720" cy="297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03640" y="488304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03640" y="531648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03640" y="574668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03640" y="44514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03640" y="4017960"/>
            <a:ext cx="14436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03640" y="3586320"/>
            <a:ext cx="144360" cy="14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03640" y="320508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5928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5928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5928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5928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5928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1672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1672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1672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1672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672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7272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07272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7272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7272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7272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7272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7272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vguemas</cp:lastModifiedBy>
  <dcterms:modified xsi:type="dcterms:W3CDTF">2012-01-08T21:59:42Z</dcterms:modified>
  <cp:revision>157</cp:revision>
  <dc:subject/>
  <dc:title>Diapositiva 1</dc:title>
</cp:coreProperties>
</file>